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A71D-E152-4A9E-9550-C1C89080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E40A-16FC-4951-91D9-F5BA4AA8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1232-710A-4C94-A68B-F2D45BE3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0E78-17DA-4AD0-B2C7-C430F34F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1C13-9A3D-4EF1-82D9-00283DF4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84AB-5284-4452-8091-082C1E79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B76F-9625-4DA1-A4C1-A68D4F22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C487-E738-4BF6-8AEC-6E45D190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540B-53CE-44D6-A2E0-3A30383E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0A1B-DBD8-42A4-AF99-FEAFE9AF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319D-9678-4BBC-8D0B-89F9B6B1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5149-1450-48E1-9673-EDF9388C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234B5-979B-427A-9894-88699F060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roe Doctrin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Monr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John Quincy Ad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3200400" cy="3886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715000" y="2286000"/>
            <a:ext cx="3200400" cy="39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what events or conditions in the history does the Doctrine ref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90709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International historical backdr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n land-claims on North America (including California and Hawa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olutions throughout Latin America against Spanish and Portuguese colonial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y Alliance” of Prussia (modern-day Germany), Austria, and Russia forms to restore monarchies in Europe after the defeat of Napol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-4680"/>
            <a:ext cx="907092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what ways does the Monroe Doctrine address American concerns for peace and safe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9920" y="23256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13:17:58Z</dcterms:created>
  <dc:creator/>
  <dc:description/>
  <dc:language>en-US</dc:language>
  <cp:lastModifiedBy/>
  <cp:revision>1</cp:revision>
  <dc:subject/>
  <dc:title/>
</cp:coreProperties>
</file>